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03400" y="1203480"/>
            <a:ext cx="7808400" cy="4970880"/>
            <a:chOff x="1103400" y="1203480"/>
            <a:chExt cx="7808400" cy="4970880"/>
          </a:xfrm>
        </p:grpSpPr>
        <p:sp>
          <p:nvSpPr>
            <p:cNvPr id="89" name=""/>
            <p:cNvSpPr/>
            <p:nvPr/>
          </p:nvSpPr>
          <p:spPr>
            <a:xfrm>
              <a:off x="1103400" y="1203480"/>
              <a:ext cx="7808400" cy="497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61360" y="1203480"/>
              <a:ext cx="7727040" cy="49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70000" y="1227240"/>
            <a:ext cx="765000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.06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 N/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18.03.05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8.03.04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1.04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2.10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5.12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1.06.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L Platform planning has been finished and account application is in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lanning in PV will be done by linking Platform tasks in projects to platform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lead-free soldering – new problems appeared in Phoenix/Sirius B1+ boards with Mozart 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zation period between SW S25 and first DS only 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isk release of SGL with G15 mask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E RF-solution implemented in Adonis – high power consumption in talk mode under invest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GL G15 and Mozart+/Twigo+ not possible for all products due to huge stocks from R65 generation. Careful material management between product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-IDB4 will be set up on 18.04.05 and will be used for X75 products Phoenix, Sirius, Adonis &amp; 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 SW has been declared with few exceptions (SWUOTA, BT car kit support, new POC side-key mapp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CR “Background audio playing” can not be integrated in Phoenix D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15108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040" y="320976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600" y="347508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600" y="374184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20T06:31:34Z</dcterms:modified>
  <cp:revision>712</cp:revision>
  <dc:subject/>
  <dc:title>PowerPoint Presentation</dc:title>
</cp:coreProperties>
</file>